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E71C-10BC-4825-AD31-854DD798AC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85BD-6CCA-46D2-B747-1FB244FD277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737F-CD6D-4A4F-8755-B67769159A6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1FA8-83DB-4941-A620-276BE85E67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207-7868-4029-96A4-7E3A6388B9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138B-F6C7-4C81-8FB7-B3F0D07DA3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2C3-350A-4221-8226-3E0F0A06160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28E3-7001-4F84-BF6D-4066C43470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2A7D-606E-4072-879E-DA5A74E17D9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B942-FC55-4F93-9B92-787659B6A6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4D11-AF9A-494A-8146-D6E237AF84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BDF6-5F10-41F9-A875-17A608B4CD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D191-9F45-4E01-901F-57F94E73175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7C04F-349C-4134-8A6B-EE4458209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3018A5-5EAA-492D-8941-F337CDD795E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BB50E-805A-47B4-8332-5E92B8B68DF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38E79-D73B-4AA7-A1A2-7BD44696179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0C539-2610-4D96-A1DF-0AB5E606645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20E55-2183-4120-A1E2-B7EE64E63BF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ED6A6-0087-4DB4-A62C-FC0565679D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8CF7B-5350-4F8E-827D-530FC39ED7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E69FD-E6BC-4A01-8F44-DA38D6817BC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65E62A-CD9B-49BE-9FF8-FB822445337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B20891-96A0-481A-84E6-040EE1D8B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EC8B51-0680-45F8-9EE5-1DDDA59D8C9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F6DDC-7082-45AD-A5E3-DBBAAA0FA49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68B80-208F-4434-A599-03223F5EE88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C7E82-89BE-4A2D-A2C5-48467B6AAD4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9C52C-0245-48DA-95B7-6561E44710B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68FF5-0B62-4918-AE12-D3EF82A058C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D7BCA-0EAE-4F1B-9014-5912B5F98C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EBAB3-8DDF-40F3-8C0D-D9589472B4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6E516-7C9A-4E9D-A22D-57FDFA2FABA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D67F8-5FFE-4ECD-8FD5-5C2265B38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3171-4399-4227-9EC2-EDCA6464460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A9317-46A5-4872-AADC-06284899DD4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733DB-C72E-401F-9E22-5144D35939E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2E5F4-7547-438A-8325-CFF91CB1370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85BC-CF22-46C6-AB66-6A462176AAF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1050-BE40-49EA-84C5-060FD32D22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B97E-CB44-4BC4-BFAC-F1BCB974BFF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72EB-F9B3-4D9B-BEFE-29D533AFDAB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1C52-B1F2-42C8-884A-7326D2FB5D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C647-1466-4A0F-A69D-2CE4DB4ADD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AFE8-A1C3-4AFE-B049-BCE9FB7A48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873E-9CB5-4B5C-A995-093C42CA3DB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69AF-3381-461D-884A-B44652CDFA4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0CCC-5F3B-4D10-8101-E4E88EB790F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186B-B546-4363-A586-D31028F5B7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CF68-AB41-4F3E-98D0-0D8082D96E1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A305-B028-41C2-B7BA-C4B35B52848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2B6D0-A329-476F-8540-D7E240889F7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A0533-6D9C-41D3-A16A-A78F46CE9D8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6B7DC-1505-446A-9633-C55867BB2D0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0DD123-D3BF-49AF-9E21-AD17025A56A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AFA9C-0B38-4F13-8560-350794C7EB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A2A5-51D5-4FB3-A0F4-276943DDAAB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AEA0D-29DA-4433-AE45-F7CFEFDBEF2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512DB-FF3E-4E4F-B6BB-CDB06C538E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7F68B-31CD-495C-A6FE-07F074AAC84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8B19A-3C3B-440F-81CB-85C5FDD2E35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6761F-3A70-48B2-BA4F-E10AB3E6FA6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58A58-F896-47CA-B05B-E97D0328289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C4E46-7FD7-4903-B939-417B41C1E20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7D328-E375-4502-96C8-0DE290CBBA3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BD6B1-7620-47E6-8127-9505697134D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F72BA-F5EF-4466-9E6C-8F17F4CA8F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F8FE-852B-4770-A22B-F93D7D897EB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19D7E-E021-442D-94A4-891CDC2F7EA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B66A6-7495-4C98-A9F5-8872835AE0A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CEF0F-CD66-4FD8-BD6F-975719CEE0A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5506F-8CFC-4E7B-B309-7B964354B82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A7395-799E-43B3-85E0-87036A9619F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82F88-2BB4-4508-AFAE-4D8B0E5DD8C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057CC-8E4B-49B6-85FD-059878DE7BB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8973F-905F-4463-80DA-53E3DB53209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CFDFC-7C32-4691-AE23-7E1EE124014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0B98-05C9-494B-8C18-471A9301DA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EE1F-9123-466E-AA87-D2700DE048D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5217-BA7F-444C-AE8E-94A00E60262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0C19-7E17-4434-8C7A-52EE3007762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EA82-2C92-47E1-9DC9-D5B0C51C6C4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8B82-75B0-4E8C-9183-E0A3A8A0278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0257-E8D8-4ACD-AA4A-14B442A803C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3573-AE68-4DD6-B5CC-CC828FABA05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458C-279B-4EE1-B4CC-4F22CD6C7A9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50D8-8E36-4C13-910B-81D3F5687BB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D153-E8C4-4869-BF72-A51C9EC7E05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A01D-76AF-4221-90E9-8AB30B74E2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1274-4463-4E11-B598-96388881CC8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5D15-AFBF-4528-B8E2-08A959CB699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C507E-9C8A-45CE-AB4C-BD33EED2070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D2C4C-FBCA-4D54-852B-57F4DF2180A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669EC-AEDD-4DB8-B7B6-53632B87AD3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32649B-7D60-478D-BD24-E8A1698A88C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336BD2-DFFC-4F2F-BAA7-D7C2AF1CF5C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D9684-FBD1-4765-B892-47F8BB40423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79724-DCC1-44F8-A390-AA62BE14740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CBED52-567F-488F-81CC-71C79E81074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C3FE3E-3013-4051-8A64-F00AA5B9FD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C0FC-1FA8-4AEA-B3D2-A2B700CA0AF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DC395A-CBE0-476C-8D15-C255B5F51D2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41A6D-C11B-4605-81A3-086D3E9C8A1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FD862-589C-440D-8E84-5DAA405CB1D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781EB-EA15-4F55-9EA7-0C144DD915F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4157B-B1C7-4263-9344-93A684C50A8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C607B-D9BC-4A44-ACCE-137658764F8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F29F7-3B10-47A3-8CB9-CFB943796F4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2B399-E0DF-42DF-BEA6-895EBCE6A09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3856F-C529-4F73-98B9-90BAC05D29B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91F32-F0A7-4100-8A84-CEFF771B2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E09A-D0C7-4047-8807-A14E6ADA705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8FFED-CB89-4452-8F50-AFB47E2D15D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CB5B2-DF8D-49EA-9574-310947E751F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857FE-4B4E-4187-9585-C7865C813D9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38C91-CCD6-496E-A350-DA2F68464FE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0DDF2-7DD2-44FD-A4F0-F009DAACB7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9325C-4460-41EE-9218-A281905E5D3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17B0B-87A7-4C56-96A8-08C645CB42D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02A51-4A8F-408A-B3DF-F882D06E0A3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123AA-FE86-41B2-86D6-EA623E0786F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70003-E620-4DF8-90BE-618D9F718E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22B6-E0C5-42F0-91EB-DBCB826F732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2DBA1-5F2D-4016-B237-EF81C77CBCD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B012-C393-466B-BF94-D41360FF25D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DC56-03D5-43BD-9D84-563DE4A49E9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595FD-57F6-447D-BD1B-B728EB1D17B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8278-4CB6-484A-9CE6-E1F8C8AA6B7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17D0-CA2C-4380-AA57-27EA78092E4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17F6-7258-48D8-9BC1-BA26744DE29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0BECE-964E-4F33-AE90-C4E75FEBE73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1B5C7B-5300-4FC7-8044-1CC74F61651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D58BFA-EFE9-465C-87BD-E123056F1C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1C94-E7B7-4E1B-9FE6-CD98B6A4758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844F35-1FE5-42B9-A67A-2A40D2B6FC4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07083B-6E10-4E7C-9C26-0CC18BA4E1B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A3FD6A-1065-42F7-8D52-4637F216A61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15377A-AED4-42A3-BD07-E98A1A1A4AC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23BCD0-04EA-44D7-AC93-E06B59D9D73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D9AA7-0ED0-4BD4-AB35-09CD2C53BA3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3F2EEA-A77B-476D-AF8D-7566E2D422B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6A88DD-BADF-42F1-805B-8415DDD6438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3DE3F3-A87D-4F38-BC76-D2E080EA9DA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44D7B-8E0B-4CD6-9633-CE2CC7A42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15A1-3EBD-427D-A129-73FB7F090B8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5469A-9E60-47E4-B27F-1FB7FAB7293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0B1AC-3C82-4706-9973-F9D92A947E1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74039-BF25-465E-826B-16E8E62FC09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6B575-44DF-4480-9680-457F01319D7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16844-38B5-4229-A62D-73499C0E5F8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5BF57-F7D8-4F69-8B1F-1B3EE64A5EF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5B393-4169-4823-97B9-68DC5F85684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E2705-A2F4-480C-86B6-847D9155B31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CE130-32AE-4536-A669-D892FB9DA4A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FA996-F5B2-48D3-A54A-BE14AA239E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0E64-A346-455D-A6D1-F8337604C1F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9F0DA-7ECF-4F01-ACF3-B1688AE3B16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F2B25-D285-4994-8254-17047367EB8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C73EE-88CE-4055-ABE6-C7CD220A892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5281F-A87F-49D3-A765-298828EBE5B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6309A-B07A-4113-8F27-E80A17888F6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DAE3A-8DA6-4688-97DF-04EA8A85EE3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9D317-716B-454D-8A27-1F4E9160F43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B4255-B183-482B-88F1-1BFDFA921AE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FB79A-0FD8-4BBF-B405-4E283FC8DFA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BC92-4E54-4EF5-9B61-55A6673A6F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7151-CAD2-4C15-9908-4E3360AEF47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5938-E6FA-4BC1-84D5-512F6FEFD8E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58B8D-86C2-4A7D-8792-1D1C9302DDC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D7F21-2E75-42E3-A9C4-884C7B4CC65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5103DF-8456-440E-AFB9-590C7759B7F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7B2381-82F7-40A8-AE4C-277D995611C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9E6539-66EB-4802-976F-250AEE8A223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6E3BDB-1DC5-4DAA-A5AD-4F4E9C925FF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0AF580-5493-497A-ABDC-1E4142E4113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01E257-E73E-46D5-9FCB-3D6CBBCAB29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2FEED-0CBD-4ADA-B958-030BBDEFDF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C973-778B-40F0-9E51-D6EE0E04C9A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DA303B-656B-49DD-A8DD-4808A80FF05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2A7672-B21D-499D-A5C9-C229DC933E0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C9EC4B-0DEA-4E89-978D-1DF3651579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66D17D-D428-4E5D-9239-8CA8071530A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340250-9A4E-4144-84D5-E5BB8EE0ABE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03263-6957-4932-B709-A5D66DFBF22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3E14A-8D2D-434C-AB3C-3F28A4DEC16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C984A-8AC6-4068-8C0E-9B92A35DC95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0E71D-AC1B-4E23-BD17-369DAC090CA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93156-1D7F-447A-AA86-4C19261A41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5624-3963-4141-A562-62E7551B449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6ED0D-2C4F-4C8A-91F6-159D3293463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AFD39-747C-48C5-A79E-416BFD6271D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DD639-B0EB-4BC9-99B5-982BCCE8A3D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82BE8-9117-4E3F-A528-A678DBA7D21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0B49E-F198-46FB-BD1D-E39451E3C6A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2B638-30AB-4917-8C8B-B417184AD2F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5CBFB-91F0-4ACA-B8F1-1C5CDDFF046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537AD-53B2-41C5-9AAC-D0A6EBBD2CF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8DFFA-8B2A-494C-AF60-FCC489EE8C3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E5853-F3EB-4D1B-9577-A138286A86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8BE1-53B7-45A0-B1D8-DB0788FE4BF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E1121-6BDC-4077-9651-975DFB7303A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4692-7C8D-466E-9106-20B050AA5A0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75358-89C3-4573-ADD0-24339932275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8085-E1F5-4CC6-A6BC-CC6419958D8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F168-0608-40C1-A678-3F8EAEC1685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4A447-AB04-4724-A563-84EE68EBB32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64CB2-07D7-4E8D-9257-C32A31BAB1F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D8BA9-C3D1-45A9-8C71-1F99EA584E6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14BE-885B-4E84-8F95-E3D8461A8AA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960D8-E5EE-4D8D-99EF-ECC556FFFB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7B0E-78A3-40DE-91D2-6417ECE3BE4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32A48C-0D2B-471E-878E-317818071E9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D24E3B-299D-4C28-95C2-9A8697AD305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DE0E3C-C050-4C79-805B-5E92B3688AF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B3FED5-47A3-42FE-8BAF-33417724444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1BD068-510D-454D-B2AA-0D927ED9769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8C8260-B660-44EB-8904-DBCC7562215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2780BF-7A40-4A33-8488-C441A6D69B9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989021-CF73-43BF-BC0F-7645600F75E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2130D4-9254-44AC-AC22-8E55B673A2C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27B1AA-F5BC-4796-B91A-B0A6D50005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A910-3CC9-4B71-A423-DAD69246702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B184C3-F93B-4488-9BA6-DBFAF8329AB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68F7B8-71B7-4B7F-9149-15BD8D43A6A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07AF28-0456-4675-8946-671558461F0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8ABC55-BE46-4640-9209-9927305AE6B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E7EA9D-5F99-4844-B653-8D8E930D84E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956E03-BE8B-4A86-9F50-D636D74876D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44D647-8506-415E-A35A-761FD0F1753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75361C-2B84-44CD-9AA4-1C5C4853982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1B5BB-43C8-4E4A-959C-75C409E4AE1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ECC799-E5AE-4071-8E9A-E88068595F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058D-4DFC-437B-93B3-83437E64487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E59056-A4F3-42CA-A572-44658565324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D7509E-561F-4A9C-A032-8B40654E6C9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DDD92-EC49-42D4-B8C9-1C14A1F449B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A788D-6118-4E80-A87A-8EFF436E732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A0620-625D-497D-A96E-50D73EAE75F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A76E5-4355-4FBC-9D2F-676CD0687FF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34CA8-9ED6-47F7-BB20-9B32127FF6C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C78D1-DEAB-4591-B9E6-B267B97A57D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7D5E8-A406-4877-96B1-7F6B0ACD696E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01C17-0E23-4801-9031-8C74C1BED2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7909-F657-4AE4-A10E-FAE67E3CE48F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DD4B7-1D93-480C-AB4E-AEFD6A24115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2BB8A-B109-4E5F-A6AE-2F404E83636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874E0-8682-4E67-A0B1-1ABFA976349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50E9F-2B65-46D0-A4DD-1BEC9A6468C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F6F83-5903-4C24-AAAB-D2731AD468E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DF3A-23E6-42A4-B7FA-2022C25A5F1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BC95-963E-4F51-8551-3E6AED16AD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A6E8-803B-4C65-9316-D00CA8EDC5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C190-0DA1-49FA-95FF-CBA8060F4F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094-EDB6-4BE4-80C6-46569781D43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690-E0CF-4DFA-9144-5912C014B3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25A-1F09-486D-AEDF-6D4741E6E09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797-C45F-48F8-89E9-3773CB7522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454-6529-42BE-81ED-0E3F8AEE0A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377-13E1-45A8-A422-0FD24A5577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3B8-DAF5-41C9-95D2-B70332788B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FAF-57CE-46F5-9C00-BFA5840CC6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9CD-6441-4F3A-8C81-B25B4CD7E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2FC-5FEA-4023-9D48-E0DF36A785E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2AF-9E5C-4E5B-B765-0D4403C3D0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280-5415-48E7-ACFF-C515F07C9ED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7524E-B592-4E19-8E8F-E2EF30C611A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544A1-C49D-453B-9A3A-FF240B5C9C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836DA-244D-4422-BB0F-3C6AB176CA9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61D38-31B7-42F6-B631-31CA11C9A5E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2EE29-84CC-48CF-8951-D262F5D06F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F34D5-72CC-43F3-9521-568DC0B371B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5C69C-B398-41AD-A8EE-5B99327A4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7C571-C728-4B2B-A5AB-E36CC1EB6B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16841-617A-4DDC-A115-80F81C16014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986FB-2A08-4D1D-B5E4-137CCD1F88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49FA0-50A4-43FB-8B43-CE198B9816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19B47-E49A-4E81-913C-96F07376D30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9D8C8-6CBD-465B-BE64-D6E28A3383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4FDF8-C386-42E2-9957-1DB90CE631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B2F3E-1144-458C-817B-F5F960D2B09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3E9B8-BE24-4640-8166-CDA182D5224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2C0C3-26DE-4E29-B556-9E0C16FB3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E6825-0E0D-4C91-80FC-8ABA288DCE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602B1-C9A6-4D00-84EE-5D3BE24826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0449-1D0A-4580-983F-69F053178E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6A53B-2C08-429E-BF78-7E2F05155E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73A3F-8B5C-44DC-9338-445B3A1AF4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B938A-23B5-4682-B0B7-B27CBA2817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75E2D-F04D-48FE-8F0C-A7AB1B67AB8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2AA5-E4DB-4DB5-8E48-2DE275CB931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4D40-1215-42DA-8989-0AF8734EB7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0C43-6A55-4571-8084-1E7AF3983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2B6D-6251-44DA-A50B-EE91068D01C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1CEE-469E-455D-B44F-A8D81D6E2BF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2DA3-1245-4AF2-B120-73CE779DF22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A1CA-54B1-42BD-9614-57D46AB71CD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CD19-88E9-4721-87B0-3636191B0A4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DF6B-FA5C-48F7-8915-65133771C11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0369-C52B-49F6-A53F-9A92823E33D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7EFA-A1BB-4AA8-A763-E16D9F4F983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118D-AA06-4514-A991-1B7C963D9A1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24A4-D01F-4BF3-99E8-5E4CC524B74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2BFB-C095-41BD-AC9C-B89E6CEEA04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6934-FF69-4E0D-8AA0-3A6E6C9F461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B3F5-215D-4F3A-B967-D0F83041573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B74E-08FF-47D8-A915-B49B0518717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6A49-8374-440F-9155-14C94486F26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8F03-0AC9-4574-A65E-5E6AEAA6A25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C7E8-3FA9-483D-9DDB-59ED10CC9E8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72D6-DB73-4E71-9E08-85980D5B291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EEB2-BE98-4D89-944F-D69DCCD1ED1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95FE-047C-453E-B1E2-0E8A37AE030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5873-E6F8-43C5-B133-9325D3729BE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4E6B-A4AD-4643-A775-B1EBD96513D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C27E-13AE-47BE-B695-0852129FDB9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E819-B4ED-4DA7-9F29-828F058866D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Flor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3"/>
          <p:cNvSpPr/>
          <p:nvPr/>
        </p:nvSpPr>
        <p:spPr>
          <a:xfrm>
            <a:off x="1224000" y="62064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179280" y="5516640"/>
            <a:ext cx="864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750960" y="1773360"/>
            <a:ext cx="764208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611280" y="1841400"/>
            <a:ext cx="7921440" cy="3591000"/>
          </a:xfrm>
          <a:prstGeom prst="rect">
            <a:avLst/>
          </a:prstGeom>
          <a:ln w="0">
            <a:noFill/>
          </a:ln>
        </p:spPr>
      </p:pic>
      <p:sp>
        <p:nvSpPr>
          <p:cNvPr id="129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1728720" y="68580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108000" y="563580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5 CuadroTexto"/>
          <p:cNvSpPr/>
          <p:nvPr/>
        </p:nvSpPr>
        <p:spPr>
          <a:xfrm>
            <a:off x="54180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295280" y="692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5 CuadroTexto"/>
          <p:cNvSpPr/>
          <p:nvPr/>
        </p:nvSpPr>
        <p:spPr>
          <a:xfrm>
            <a:off x="617400" y="51958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19920" cy="3471840"/>
          </a:xfrm>
          <a:prstGeom prst="rect">
            <a:avLst/>
          </a:prstGeom>
          <a:ln w="0">
            <a:noFill/>
          </a:ln>
        </p:spPr>
      </p:pic>
      <p:sp>
        <p:nvSpPr>
          <p:cNvPr id="1305" name="Rectangle 6"/>
          <p:cNvSpPr/>
          <p:nvPr/>
        </p:nvSpPr>
        <p:spPr>
          <a:xfrm>
            <a:off x="34920" y="5457960"/>
            <a:ext cx="892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763640" y="692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1029600" y="517680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88920" y="5532480"/>
            <a:ext cx="9001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922320" y="1773360"/>
            <a:ext cx="7299360" cy="3446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525600"/>
            <a:ext cx="718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11240" y="5589720"/>
            <a:ext cx="895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5 CuadroTexto"/>
          <p:cNvSpPr/>
          <p:nvPr/>
        </p:nvSpPr>
        <p:spPr>
          <a:xfrm>
            <a:off x="556920" y="5278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243080" y="1700280"/>
            <a:ext cx="658476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30120" y="5608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152360" y="69228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gosto – octu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697040" y="2158920"/>
            <a:ext cx="5524560" cy="3449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Flo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971640" y="1828800"/>
            <a:ext cx="6624720" cy="149220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6192720" cy="150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aquet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569880" y="1825560"/>
            <a:ext cx="76453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758520" y="46306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439560" y="2060640"/>
            <a:ext cx="838044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944800" y="3300480"/>
            <a:ext cx="6120000" cy="1857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6 CuadroTexto"/>
          <p:cNvSpPr/>
          <p:nvPr/>
        </p:nvSpPr>
        <p:spPr>
          <a:xfrm>
            <a:off x="3635280" y="587700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367200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3044880" y="246240"/>
            <a:ext cx="6143400" cy="5514840"/>
          </a:xfrm>
          <a:prstGeom prst="rect">
            <a:avLst/>
          </a:prstGeom>
          <a:ln w="0">
            <a:noFill/>
          </a:ln>
        </p:spPr>
      </p:pic>
      <p:sp>
        <p:nvSpPr>
          <p:cNvPr id="1271" name="1 Rectángulo"/>
          <p:cNvSpPr/>
          <p:nvPr/>
        </p:nvSpPr>
        <p:spPr>
          <a:xfrm>
            <a:off x="3635280" y="6107040"/>
            <a:ext cx="543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*El total de las 23 ciudades no incluye San Andrés por tener una distribución de la muestra diferent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Los resultados presentados para San Andrés corresponden al período mayo – octubre 2015.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332000" y="404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144440" y="1585800"/>
            <a:ext cx="6855120" cy="3930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5 CuadroTexto"/>
          <p:cNvSpPr/>
          <p:nvPr/>
        </p:nvSpPr>
        <p:spPr>
          <a:xfrm>
            <a:off x="162540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1514520" y="1662120"/>
            <a:ext cx="6114960" cy="3533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– octu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492120" y="2708280"/>
            <a:ext cx="8232840" cy="216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uan Camilo Riveros Botero</cp:lastModifiedBy>
  <cp:lastPrinted>2014-10-03T19:19:10Z</cp:lastPrinted>
  <dcterms:modified xsi:type="dcterms:W3CDTF">2015-12-10T13:35:15Z</dcterms:modified>
  <cp:revision>971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